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13.png" ContentType="image/png"/>
  <Override PartName="/ppt/media/image5.png" ContentType="image/png"/>
  <Override PartName="/ppt/media/image10.png" ContentType="image/png"/>
  <Override PartName="/ppt/media/image7.gif" ContentType="image/gif"/>
  <Override PartName="/ppt/media/image9.png" ContentType="image/png"/>
  <Override PartName="/ppt/media/image6.gif" ContentType="image/gi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B84-61BA-41AB-A662-85D3AE4B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654-C0A4-4E66-9077-B06678E0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FBEB-3BEC-4CCC-9F22-66BA4813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4E2-F813-4AA5-A4DC-D42F4596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3C1-22E7-4A2A-B1AE-6DB87129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958-9CB7-4048-BA02-2172F341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F3A-0FF1-45F9-9B21-A0A16FDE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A9AF-39D8-4A69-8BE5-E768FD7C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5A7-B14C-40AC-9D4F-B08661D8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610-FAE4-4FD3-8B36-3312AF17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2FD7-3E8E-42E9-A45A-4CA19984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4B0-E134-4423-83D8-87C22EDD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191B-C0CD-47F1-B489-3B949A80E4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1996920" cy="3962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895480" y="3657600"/>
            <a:ext cx="579132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 to class!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hello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417840" cy="2011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57400" y="685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H e l l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mage001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98960" cy="2057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371600"/>
            <a:ext cx="4191120" cy="1523880"/>
          </a:xfrm>
          <a:prstGeom prst="cloudCallout">
            <a:avLst>
              <a:gd name="adj1" fmla="val 10870"/>
              <a:gd name="adj2" fmla="val 12093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Good     mo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  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aftern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     </a:t>
            </a:r>
            <a:r>
              <a:rPr b="1" i="1" lang="en-US" sz="2400" spc="-1" strike="noStrike">
                <a:solidFill>
                  <a:srgbClr val="006600"/>
                </a:solidFill>
                <a:latin typeface="Tahoma"/>
              </a:rPr>
              <a:t>ev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733920"/>
            <a:ext cx="3505320" cy="1218960"/>
          </a:xfrm>
          <a:prstGeom prst="wedgeEllipseCallout">
            <a:avLst>
              <a:gd name="adj1" fmla="val 81430"/>
              <a:gd name="adj2" fmla="val 45050"/>
            </a:avLst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It’s nice to meet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rebuchet MS"/>
              </a:rPr>
              <a:t>It’s  gl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791320"/>
            <a:ext cx="3124080" cy="533160"/>
          </a:xfrm>
          <a:prstGeom prst="wedgeRectCallout">
            <a:avLst>
              <a:gd name="adj1" fmla="val 42430"/>
              <a:gd name="adj2" fmla="val -165476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do you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c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914400"/>
            <a:ext cx="144792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Aa [ei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523880"/>
            <a:ext cx="144792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Bb  [bi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133720"/>
            <a:ext cx="1447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c [si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738520"/>
            <a:ext cx="1447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Dd  [di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3271680"/>
            <a:ext cx="144792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Ee [i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3805200"/>
            <a:ext cx="144792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Ff [ef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8150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Hh [eit</a:t>
            </a:r>
            <a:r>
              <a:rPr b="1" lang="zh-CN" sz="28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52722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Ii  [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5729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Jj [</a:t>
            </a:r>
            <a:r>
              <a:rPr b="1" lang="zh-CN" sz="28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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838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Kk [kei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29000" y="1523880"/>
            <a:ext cx="144792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l [el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29000" y="2209680"/>
            <a:ext cx="144792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Mm  [em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29000" y="2895480"/>
            <a:ext cx="144792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Nn [en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29000" y="4191120"/>
            <a:ext cx="144792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84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Pp  [pi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429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o  [</a:t>
            </a:r>
            <a:r>
              <a:rPr b="1" lang="zh-CN" sz="28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29000" y="5029200"/>
            <a:ext cx="144792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Qq  [kju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Rr [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r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77120" y="914400"/>
            <a:ext cx="144756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Ss [es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77120" y="1600200"/>
            <a:ext cx="144756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Tt  [ti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477120" y="2281320"/>
            <a:ext cx="144756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u [ju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7120" y="2967120"/>
            <a:ext cx="1447560" cy="3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Vv  [vi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3581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Ww [</a:t>
            </a:r>
            <a:r>
              <a:rPr b="1" lang="zh-CN" sz="28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d</a:t>
            </a:r>
            <a:r>
              <a:rPr b="1" lang="zh-CN" sz="28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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477120" y="4262400"/>
            <a:ext cx="144756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Xx  [eks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477120" y="5491080"/>
            <a:ext cx="1523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Zz  [zi: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[zed]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4819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Yy  [w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i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426708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Gg [</a:t>
            </a:r>
            <a:r>
              <a:rPr b="1" lang="zh-CN" sz="28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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flower1" descr=""/>
          <p:cNvPicPr/>
          <p:nvPr/>
        </p:nvPicPr>
        <p:blipFill>
          <a:blip r:embed="rId1"/>
          <a:stretch/>
        </p:blipFill>
        <p:spPr>
          <a:xfrm>
            <a:off x="8381880" y="304920"/>
            <a:ext cx="266760" cy="247680"/>
          </a:xfrm>
          <a:prstGeom prst="rect">
            <a:avLst/>
          </a:prstGeom>
          <a:ln w="0">
            <a:noFill/>
          </a:ln>
        </p:spPr>
      </p:pic>
      <p:pic>
        <p:nvPicPr>
          <p:cNvPr id="76" name="girl" descr=""/>
          <p:cNvPicPr/>
          <p:nvPr/>
        </p:nvPicPr>
        <p:blipFill>
          <a:blip r:embed="rId2"/>
          <a:stretch/>
        </p:blipFill>
        <p:spPr>
          <a:xfrm>
            <a:off x="8458200" y="6019920"/>
            <a:ext cx="3650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ffff99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057400" y="533520"/>
            <a:ext cx="228600" cy="2514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80880"/>
            <a:ext cx="6094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40240" y="380880"/>
            <a:ext cx="1155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单元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40240" y="1828800"/>
            <a:ext cx="1155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双元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380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前元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e ]    [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   [ i ]   [ i :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838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元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    [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12952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元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u]    [u:]  [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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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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 [a: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457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19051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19051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口双元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ei ]    [ai ]  [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i  ] [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u ] [ a u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6688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集中双元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i 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   [ 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  [ u 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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34290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276720"/>
            <a:ext cx="6094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33526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破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b ] [ p ] [ d ] [ t ] [ g ] [  k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733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摩擦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s ]  [ z ] [ f ] [ v ] [ 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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] [  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4267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擦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 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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]    [ d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]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6386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半元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w ]    [  j 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60958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鼻辅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m ]    [  n  ]  [ </a:t>
            </a:r>
            <a:r>
              <a:rPr b="1" lang="zh-CN" sz="2400" spc="-1" strike="noStrike">
                <a:solidFill>
                  <a:srgbClr val="000000"/>
                </a:solidFill>
                <a:latin typeface="Kingsoft Phonetic Plain"/>
                <a:ea typeface="Kingsoft Phonetic Plain"/>
              </a:rPr>
              <a:t>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4876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5"/>
                </a:lnTo>
                <a:cubicBezTo>
                  <a:pt x="10800" y="10395"/>
                  <a:pt x="5400" y="11295"/>
                  <a:pt x="0" y="11295"/>
                </a:cubicBezTo>
                <a:cubicBezTo>
                  <a:pt x="5400" y="11295"/>
                  <a:pt x="10800" y="12195"/>
                  <a:pt x="10800" y="130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6240" y="5029200"/>
            <a:ext cx="91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音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清晰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 l eg  ]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模糊音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[  el  ]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87120" y="1523880"/>
            <a:ext cx="1277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隶书"/>
              </a:rPr>
              <a:t>国  际  音  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girl13" descr=""/>
          <p:cNvPicPr/>
          <p:nvPr/>
        </p:nvPicPr>
        <p:blipFill>
          <a:blip r:embed="rId1"/>
          <a:stretch/>
        </p:blipFill>
        <p:spPr>
          <a:xfrm>
            <a:off x="7467480" y="5486400"/>
            <a:ext cx="129564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辅音发音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1447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1219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行楷"/>
                <a:ea typeface="华文行楷"/>
              </a:rPr>
              <a:t>摩擦音</a:t>
            </a:r>
            <a:r>
              <a:rPr b="1" lang="zh-CN" sz="2800" spc="-1" strike="noStrike">
                <a:solidFill>
                  <a:srgbClr val="006600"/>
                </a:solidFill>
                <a:latin typeface="方正姚体"/>
                <a:ea typeface="方正姚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h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r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</a:t>
            </a:r>
            <a:r>
              <a:rPr b="1" lang="zh-CN" sz="2800" spc="-1" strike="noStrike">
                <a:solidFill>
                  <a:srgbClr val="006600"/>
                </a:solidFill>
                <a:latin typeface="Kingsoft Phonetic Plain"/>
                <a:ea typeface="Kingsoft Phonetic Plain"/>
              </a:rPr>
              <a:t>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</a:t>
            </a:r>
            <a:r>
              <a:rPr b="1" lang="zh-CN" sz="2800" spc="-1" strike="noStrike">
                <a:solidFill>
                  <a:srgbClr val="006600"/>
                </a:solidFill>
                <a:latin typeface="Kingsoft Phonetic Plain"/>
                <a:ea typeface="Kingsoft Phonetic Plain"/>
              </a:rPr>
              <a:t>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h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2057400" cy="2103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962520" y="2438280"/>
            <a:ext cx="4800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表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ir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re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rm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en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ell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4864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发音要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隶书"/>
              </a:rPr>
              <a:t>口半闭，气息由声门出来，但是不振动声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h2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158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辅音发音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447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1219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行楷"/>
                <a:ea typeface="华文行楷"/>
              </a:rPr>
              <a:t>摩擦音</a:t>
            </a:r>
            <a:r>
              <a:rPr b="1" lang="zh-CN" sz="2800" spc="-1" strike="noStrike">
                <a:solidFill>
                  <a:srgbClr val="006600"/>
                </a:solidFill>
                <a:latin typeface="方正姚体"/>
                <a:ea typeface="方正姚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h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r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</a:t>
            </a:r>
            <a:r>
              <a:rPr b="1" lang="zh-CN" sz="2800" spc="-1" strike="noStrike">
                <a:solidFill>
                  <a:srgbClr val="006600"/>
                </a:solidFill>
                <a:latin typeface="Kingsoft Phonetic Plain"/>
                <a:ea typeface="Kingsoft Phonetic Plain"/>
              </a:rPr>
              <a:t>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</a:t>
            </a:r>
            <a:r>
              <a:rPr b="1" lang="zh-CN" sz="2800" spc="-1" strike="noStrike">
                <a:solidFill>
                  <a:srgbClr val="006600"/>
                </a:solidFill>
                <a:latin typeface="Kingsoft Phonetic Plain"/>
                <a:ea typeface="Kingsoft Phonetic Plain"/>
              </a:rPr>
              <a:t>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438280"/>
            <a:ext cx="4800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表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re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re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f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te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y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c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ed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54864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发音要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隶书"/>
              </a:rPr>
              <a:t>唇形稍圆，舌身略凹，舌类上卷，振动声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r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20574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辅音发音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447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1219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行楷"/>
                <a:ea typeface="华文行楷"/>
              </a:rPr>
              <a:t>摩擦音</a:t>
            </a:r>
            <a:r>
              <a:rPr b="1" lang="zh-CN" sz="2800" spc="-1" strike="noStrike">
                <a:solidFill>
                  <a:srgbClr val="006600"/>
                </a:solidFill>
                <a:latin typeface="方正姚体"/>
                <a:ea typeface="方正姚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h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r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</a:t>
            </a:r>
            <a:r>
              <a:rPr b="1" lang="zh-CN" sz="2800" spc="-1" strike="noStrike">
                <a:solidFill>
                  <a:srgbClr val="006600"/>
                </a:solidFill>
                <a:latin typeface="Kingsoft Phonetic Plain"/>
                <a:ea typeface="Kingsoft Phonetic Plain"/>
              </a:rPr>
              <a:t>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</a:t>
            </a:r>
            <a:r>
              <a:rPr b="1" lang="zh-CN" sz="2800" spc="-1" strike="noStrike">
                <a:solidFill>
                  <a:srgbClr val="006600"/>
                </a:solidFill>
                <a:latin typeface="Kingsoft Phonetic Plain"/>
                <a:ea typeface="Kingsoft Phonetic Plain"/>
              </a:rPr>
              <a:t>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irhday2" descr=""/>
          <p:cNvPicPr/>
          <p:nvPr/>
        </p:nvPicPr>
        <p:blipFill>
          <a:blip r:embed="rId1"/>
          <a:stretch/>
        </p:blipFill>
        <p:spPr>
          <a:xfrm>
            <a:off x="1143000" y="2971800"/>
            <a:ext cx="2209680" cy="1905120"/>
          </a:xfrm>
          <a:prstGeom prst="rect">
            <a:avLst/>
          </a:prstGeom>
          <a:ln w="0">
            <a:noFill/>
          </a:ln>
        </p:spPr>
      </p:pic>
      <p:pic>
        <p:nvPicPr>
          <p:cNvPr id="121" name="birhday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2209680" cy="1905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809880" y="2819520"/>
            <a:ext cx="4800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表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b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b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bre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ick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nk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4864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发音要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隶书"/>
              </a:rPr>
              <a:t>舌尖轻抵上齿，送出气流，并使舌齿互相摩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辅音发音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447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2193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行楷"/>
                <a:ea typeface="华文行楷"/>
              </a:rPr>
              <a:t>摩擦音</a:t>
            </a:r>
            <a:r>
              <a:rPr b="1" lang="zh-CN" sz="2800" spc="-1" strike="noStrike">
                <a:solidFill>
                  <a:srgbClr val="006600"/>
                </a:solidFill>
                <a:latin typeface="方正姚体"/>
                <a:ea typeface="方正姚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h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r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</a:t>
            </a:r>
            <a:r>
              <a:rPr b="1" lang="zh-CN" sz="2800" spc="-1" strike="noStrike">
                <a:solidFill>
                  <a:srgbClr val="006600"/>
                </a:solidFill>
                <a:latin typeface="Kingsoft Phonetic Plain"/>
                <a:ea typeface="Kingsoft Phonetic Plain"/>
              </a:rPr>
              <a:t>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]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</a:t>
            </a:r>
            <a:r>
              <a:rPr b="1" lang="zh-CN" sz="2800" spc="-1" strike="noStrike">
                <a:solidFill>
                  <a:srgbClr val="006600"/>
                </a:solidFill>
                <a:latin typeface="Kingsoft Phonetic Plain"/>
                <a:ea typeface="Kingsoft Phonetic Plain"/>
              </a:rPr>
              <a:t>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2133720"/>
            <a:ext cx="4800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代表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b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bre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clo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h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oug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18148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PMingLiU"/>
              </a:rPr>
              <a:t>发音要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隶书"/>
              </a:rPr>
              <a:t>舌尖轻抵上齿，再送出气流，但必须振动声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  <a:ea typeface="隶书"/>
              </a:rPr>
              <a:t>并使舌齿互相摩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1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2571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f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5335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华文彩云"/>
              </a:rPr>
              <a:t>辅音发音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144792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057400"/>
            <a:ext cx="58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华文行楷"/>
                <a:ea typeface="华文行楷"/>
              </a:rPr>
              <a:t>破擦音</a:t>
            </a:r>
            <a:r>
              <a:rPr b="1" lang="zh-CN" sz="2800" spc="-1" strike="noStrike">
                <a:solidFill>
                  <a:srgbClr val="006600"/>
                </a:solidFill>
                <a:latin typeface="方正姚体"/>
                <a:ea typeface="方正姚体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t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dz]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tr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  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6600"/>
                </a:solidFill>
                <a:latin typeface="Courier New"/>
                <a:ea typeface="Courier New"/>
              </a:rPr>
              <a:t>[dr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aoshu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3810240" cy="952560"/>
          </a:xfrm>
          <a:prstGeom prst="rect">
            <a:avLst/>
          </a:prstGeom>
          <a:ln w="0">
            <a:noFill/>
          </a:ln>
        </p:spPr>
      </p:pic>
      <p:pic>
        <p:nvPicPr>
          <p:cNvPr id="136" name="flower1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266760" cy="247680"/>
          </a:xfrm>
          <a:prstGeom prst="rect">
            <a:avLst/>
          </a:prstGeom>
          <a:ln w="0">
            <a:noFill/>
          </a:ln>
        </p:spPr>
      </p:pic>
      <p:pic>
        <p:nvPicPr>
          <p:cNvPr id="137" name="flower1" descr=""/>
          <p:cNvPicPr/>
          <p:nvPr/>
        </p:nvPicPr>
        <p:blipFill>
          <a:blip r:embed="rId3"/>
          <a:stretch/>
        </p:blipFill>
        <p:spPr>
          <a:xfrm>
            <a:off x="1066680" y="5257800"/>
            <a:ext cx="2667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9:52:10Z</dcterms:created>
  <dc:creator>ly</dc:creator>
  <dc:description/>
  <dc:language>en-US</dc:language>
  <cp:lastModifiedBy>个人电脑</cp:lastModifiedBy>
  <dcterms:modified xsi:type="dcterms:W3CDTF">2002-10-17T14:02:29Z</dcterms:modified>
  <cp:revision>42</cp:revision>
  <dc:subject/>
  <dc:title>PowerPoint 演示文稿</dc:title>
</cp:coreProperties>
</file>