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wmf" ContentType="image/x-wmf"/>
  <Override PartName="/ppt/media/image7.wmf" ContentType="image/x-wmf"/>
  <Override PartName="/ppt/media/gunshot.wav" ContentType="audio/x-wav"/>
  <Override PartName="/ppt/media/chimes.wav" ContentType="audio/x-wav"/>
  <Override PartName="/ppt/media/image1.png" ContentType="image/png"/>
  <Override PartName="/ppt/media/carbrake.wav" ContentType="audio/x-wav"/>
  <Override PartName="/ppt/media/image3.wmf" ContentType="image/x-wmf"/>
  <Override PartName="/ppt/media/laser.wav" ContentType="audio/x-wav"/>
  <Override PartName="/ppt/media/image2.gif" ContentType="image/gif"/>
  <Override PartName="/ppt/media/whoosh.wav" ContentType="audio/x-wav"/>
  <Override PartName="/ppt/media/image4.wmf" ContentType="image/x-wmf"/>
  <Override PartName="/ppt/media/image5.wmf" ContentType="image/x-wmf"/>
  <Override PartName="/ppt/media/applause.wav" ContentType="audio/x-wav"/>
  <Override PartName="/ppt/media/projct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6A3-794C-41CE-B510-86BDB970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7E6C-50A9-4524-87E3-4381A975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083-110C-4745-8F79-2820D24C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E353-DB50-4609-8F2B-9DA8B06D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9110-CF4E-4602-AA84-DD54949B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3C2-CFFD-4E7B-9A52-27A8B3B0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0BC-F0D3-416A-B2F8-0346B832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38CD-63CF-4F59-8795-D788EB09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F9EE-6CB9-458F-A600-CD26726F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C99-B01A-43B9-9A4E-992E29A3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D63-1AC7-49A2-BA7A-CEF2614E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3FE-30D6-460E-BF8F-F06E2B8E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37B9-65A4-4019-9756-0CC129E4EC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95280" y="3124080"/>
            <a:ext cx="5410440" cy="287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Merry Christma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vrgirl" descr=""/>
          <p:cNvPicPr/>
          <p:nvPr/>
        </p:nvPicPr>
        <p:blipFill>
          <a:blip r:embed="rId1"/>
          <a:stretch/>
        </p:blipFill>
        <p:spPr>
          <a:xfrm>
            <a:off x="7238880" y="2209680"/>
            <a:ext cx="1905120" cy="3657600"/>
          </a:xfrm>
          <a:prstGeom prst="rect">
            <a:avLst/>
          </a:prstGeom>
          <a:ln w="0">
            <a:noFill/>
          </a:ln>
        </p:spPr>
      </p:pic>
      <p:pic>
        <p:nvPicPr>
          <p:cNvPr id="43" name="pierrots" descr=""/>
          <p:cNvPicPr/>
          <p:nvPr/>
        </p:nvPicPr>
        <p:blipFill>
          <a:blip r:embed="rId2"/>
          <a:stretch/>
        </p:blipFill>
        <p:spPr>
          <a:xfrm>
            <a:off x="1905120" y="762120"/>
            <a:ext cx="198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228600"/>
            <a:ext cx="754380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标志性时间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般现在时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very … ,often, usually,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在进行时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w,at the momen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t present,Look,Lis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般过去时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esterday… ,last…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+ago,the day before yester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般将来时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morrow… ,next…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段时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soon,the day after 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SY01265_" descr=""/>
          <p:cNvPicPr/>
          <p:nvPr/>
        </p:nvPicPr>
        <p:blipFill>
          <a:blip r:embed="rId1"/>
          <a:stretch/>
        </p:blipFill>
        <p:spPr>
          <a:xfrm>
            <a:off x="6781680" y="380880"/>
            <a:ext cx="2016360" cy="42674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whoosh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-50760"/>
            <a:ext cx="754380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句型转换（否定及疑问句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om wrote a letter at home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否定句：在系动词、情态动词、助动词之后加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om didn’t write a letter at home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一般疑问句：将系动词、情态动词、助动词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Did Tom write a letter at home yester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特殊疑问句：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对主语提问—直接用特殊疑问词替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Who wrote a letter at home yester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一般—特殊疑问词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一般疑问句，去掉被问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Where did Tom write a letter yester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对谓语部分提问—特殊疑问词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一般疑问句，并用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do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的相应形式替换被问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What did Tom do at home yester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-50760"/>
            <a:ext cx="7772400" cy="70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、特殊疑问词小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）对主语提问：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who,whose+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名词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,which+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名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）对时间状语提问：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when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（对泛泛的时间提问）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how long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（对一段时间提问）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,what time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（具体几点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）其他：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how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（对方式提问）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,how soon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（多久）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how old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（多大）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,how often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（频率提问）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, where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（地点）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how many+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可数名词（多少）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,how much+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不可数名词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why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（对原因提问）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,what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（对事物提问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注意：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He visited Beijing three or four times a mo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对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three or four times a month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提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How often did he visit Beij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对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three or four times</a:t>
            </a: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提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00"/>
                </a:solidFill>
                <a:latin typeface="Times New Roman"/>
              </a:rPr>
              <a:t>How many times did he visit Beijing a mont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  <p:sndAc>
      <p:stSnd>
        <p:snd r:embed="rId1" name="applaus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380880"/>
            <a:ext cx="7620120" cy="57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介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表时间的介词：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at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（具体时间）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,on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（具体某一天）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,    in+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一段时间（将来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用”：   用钢笔写字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write with a pen(with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表伴随状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用英语说话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speak in Eng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by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表方式：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by bike,by underground,by bus…(on fo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learn English by radio and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over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表在…上方 ：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balloons fly over Tian An Men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             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a bridge over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开…的钥匙介词用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：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the key to my bi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其他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away from,across&amp;through,in front of&amp;in the fron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1" name="carbrak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457200"/>
            <a:ext cx="7162920" cy="56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333300"/>
                </a:solidFill>
                <a:latin typeface="Times New Roman"/>
              </a:rPr>
              <a:t>数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438 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表示法</a:t>
            </a:r>
            <a:r>
              <a:rPr b="1" lang="zh-CN" sz="2800" spc="-1" strike="noStrike">
                <a:solidFill>
                  <a:srgbClr val="333300"/>
                </a:solidFill>
                <a:latin typeface="Wingdings"/>
                <a:ea typeface="Wingdings"/>
              </a:rPr>
              <a:t>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(hundred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后无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s)                                 four hundred and thirty—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2.7:35   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介词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to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表示“到”，分钟在前，小时在后  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twenty—five to 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3.What day is today? (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星期几）               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Today is Fri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4.What’s the date today? 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（几号）               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It’s Oct 1</a:t>
            </a:r>
            <a:r>
              <a:rPr b="1" lang="zh-CN" sz="2800" spc="-1" strike="noStrike" baseline="30000">
                <a:solidFill>
                  <a:srgbClr val="333300"/>
                </a:solidFill>
                <a:latin typeface="Times New Roman"/>
              </a:rPr>
              <a:t>st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序数词之前要加定冠词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the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the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E01832_" descr=""/>
          <p:cNvPicPr/>
          <p:nvPr/>
        </p:nvPicPr>
        <p:blipFill>
          <a:blip r:embed="rId1"/>
          <a:stretch/>
        </p:blipFill>
        <p:spPr>
          <a:xfrm flipH="1">
            <a:off x="6172200" y="3500280"/>
            <a:ext cx="2209680" cy="201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projcto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533520"/>
            <a:ext cx="72388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四大句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陈述句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：肯定句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&amp;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否定句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疑问句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：一般疑问句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&amp;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特殊疑问句                                    选择疑问句（具体问题具体回答，选择没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没有的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o)     Are you a teacher or a student? I’m a teacher.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反意疑问句（正常句子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系动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助动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情态动词的前肯定后否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前否定后肯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主语的代词形式）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ary can speak English, can’t she?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叹句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：感叹名词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a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，感叹形容词或副词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ow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（注意不可数名词）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hat lovely weather it is.                           How lovely the weather is.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祈使句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：肯定句—直接以动词原形开头的句子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ave some coke,please.                                                      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否定句—以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Don’t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开头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Don’t open th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D06455_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1888920" cy="1874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gunsho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133720" y="304920"/>
            <a:ext cx="7010280" cy="57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简单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有一套主谓的句子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study Englis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并列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套主谓，可各自独立表达意义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The weather is quite pleasant today,but it’s even better yesterday.      2.Hurry up,or you will be l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复合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套主谓，其中一个句子充当另一个句子的一个成分                                                                     原因状语从句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cause,since,for,as…                       I didn’t go to school yesterday because I had a bad cold.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件状语从句—主句用将来时，从句用一般现在时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won’t go fishing tomorrow if it rains.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让步状语从句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though,though…                     Though she is over 50 years old,she studies English very hard.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间状语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,while,before,after,as soon a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6274800">
            <a:off x="-402480" y="2289600"/>
            <a:ext cx="3433680" cy="2397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句子类型：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rd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533520"/>
            <a:ext cx="7467840" cy="58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其他重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ad better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原形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’re late. We’d better hur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mus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般疑问否定回答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edn’t                                       Must we do it now? No, you need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ew/a few/little/a litt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区别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 are a few minutes before the game begins.          There is a little water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We will have a two—week holiday,so will they.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代替前文提到过的情况，后面的内容主谓倒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Could you tell me the way t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a ten-year-old girl = a ten years’ old gir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SY00451_" descr=""/>
          <p:cNvPicPr/>
          <p:nvPr/>
        </p:nvPicPr>
        <p:blipFill>
          <a:blip r:embed="rId1"/>
          <a:stretch/>
        </p:blipFill>
        <p:spPr>
          <a:xfrm>
            <a:off x="6405480" y="685800"/>
            <a:ext cx="242244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828800" y="762120"/>
            <a:ext cx="56386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祝你们取得好成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429000"/>
            <a:ext cx="556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刘冬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3142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off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386192  (ho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E-mai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hmily1228@hotmai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电大英语（一）期末复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                           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200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年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3406680"/>
            <a:ext cx="26668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名词复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般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s, 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以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,ch,sh,x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尾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es,  b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尾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s,  rad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es,  pota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以辅音字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尾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s,  c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,f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尾 ，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,f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s,  le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单复同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ep,Chin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抽象名词和物质名词为不可数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las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</a:rPr>
              <a:t>冠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不定冠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用于开头的第一个音为辅音的名词之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eg. a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a univer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an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用于开头的第一个音为元音的名词之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eg. an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定冠词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）专有名词         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he Great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）世上独一无二的事物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）序数词之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4)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特指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on the de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）上文提到过的事物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This is a book, the book is 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6)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形容词比较级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  <p:sndAc>
      <p:stSnd>
        <p:snd r:embed="rId1" name="gunshot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ff"/>
                </a:solidFill>
                <a:latin typeface="Times New Roman"/>
              </a:rPr>
              <a:t>代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）指示代词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this that these th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）人称代词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主格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I we you he she it they    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宾格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me us you him her it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）物主代词：                                          形容词性     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my our your his her its thei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名词性 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mine ours yours his hers its the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）自身代词 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myself ourselves yourself yourselves himself herself itself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）不定代词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something,every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等，          不定代词的定语后置  </a:t>
            </a:r>
            <a:r>
              <a:rPr b="1" lang="zh-CN" sz="3200" spc="-1" strike="noStrike">
                <a:solidFill>
                  <a:srgbClr val="0099ff"/>
                </a:solidFill>
                <a:latin typeface="Times New Roman"/>
              </a:rPr>
              <a:t>eg:something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1" name="whoosh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b45b5"/>
                </a:solidFill>
                <a:latin typeface="Times New Roman"/>
                <a:ea typeface="隶书"/>
              </a:rPr>
              <a:t>形容词（一）比较级与最高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1f408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一、含义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、同级比较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as…as…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表两者相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1f408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Tom is as tall as J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1f408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否定： 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not as(so)…as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表两者不相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The old can’t run so fast as the young                2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、比较级经常用于两者之间的比较     句子的一般结构是：含有形容词比较级的主句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than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引导的从句。                                        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eg:It’s hotter in Spain than it’s in Greece.          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从句中常省略与主语相同的部分                    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It’s hotter in Spain than in Gree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700"/>
              </a:spcBef>
              <a:buClr>
                <a:srgbClr val="1f408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、最高级用于三者或三者以上在一定范围内的比较。最高级前加定冠词</a:t>
            </a:r>
            <a:r>
              <a:rPr b="1" lang="zh-CN" sz="2800" spc="-1" strike="noStrike">
                <a:solidFill>
                  <a:srgbClr val="1f4081"/>
                </a:solidFill>
                <a:latin typeface="Times New Roman"/>
              </a:rPr>
              <a:t>the                         eg:He is the best student in our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-533520"/>
            <a:ext cx="861048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二、比较级的修饰语：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much,a lot ,a bit, far,even,a li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eg:Tom did the job far better than M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三、句型：比较级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+and+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比较级   越来越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eg:better and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四、句型：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the+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比较级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,the+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比较级     越…越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eg:the more the b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五、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one of the + 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形容词最高级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复数名词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范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6a7a"/>
                </a:solidFill>
                <a:latin typeface="Times New Roman"/>
              </a:rPr>
              <a:t>（二）形容词的修饰顺序 ：大小</a:t>
            </a:r>
            <a:r>
              <a:rPr b="1" lang="zh-CN" sz="3200" spc="-1" strike="noStrike">
                <a:solidFill>
                  <a:srgbClr val="1f6a7a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1f6a7a"/>
                </a:solidFill>
                <a:latin typeface="Times New Roman"/>
              </a:rPr>
              <a:t>颜色</a:t>
            </a:r>
            <a:r>
              <a:rPr b="1" lang="zh-CN" sz="3200" spc="-1" strike="noStrike">
                <a:solidFill>
                  <a:srgbClr val="1f6a7a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1f6a7a"/>
                </a:solidFill>
                <a:latin typeface="Times New Roman"/>
              </a:rPr>
              <a:t>形状</a:t>
            </a:r>
            <a:r>
              <a:rPr b="1" lang="zh-CN" sz="3200" spc="-1" strike="noStrike">
                <a:solidFill>
                  <a:srgbClr val="1f6a7a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1f6a7a"/>
                </a:solidFill>
                <a:latin typeface="Times New Roman"/>
              </a:rPr>
              <a:t>质地</a:t>
            </a:r>
            <a:r>
              <a:rPr b="1" lang="zh-CN" sz="2400" spc="-1" strike="noStrike">
                <a:solidFill>
                  <a:srgbClr val="1f6a7a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1f6a7a"/>
                </a:solidFill>
                <a:latin typeface="Times New Roman"/>
              </a:rPr>
              <a:t>eg. a small red round leather b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0"/>
            <a:ext cx="815364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四种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表示：一般现在时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普遍真理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事物所处的一般状态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经常习惯性的动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m writes a letter at home every 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现在进行时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 此刻正在进行的动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当前这一阶段正在进行的动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m is writing a letter at home 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般将来时：表示将要发生的动作和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m will write a letter at home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般过去时；过去某时发生的动作和情况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om wrote a letter at home yester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5400000">
            <a:off x="-387720" y="3719520"/>
            <a:ext cx="2530440" cy="88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动词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cc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0"/>
            <a:ext cx="769644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形式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现在时——动词原形（第三人称单数）                                                             助动词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(does)                                                 Does Tom write a letter  every day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进行时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助动词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      Is Tom writing a letter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将来时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ll/shall 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词原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助动词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ll/shal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ll Tom write a letter tomorr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过去时——动词过去式 助动词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id       Did Tom write a letter yesterd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0:04:15Z</dcterms:created>
  <dc:creator>xd</dc:creator>
  <dc:description/>
  <dc:language>en-US</dc:language>
  <cp:lastModifiedBy>个人电脑</cp:lastModifiedBy>
  <dcterms:modified xsi:type="dcterms:W3CDTF">2002-12-25T06:07:37Z</dcterms:modified>
  <cp:revision>51</cp:revision>
  <dc:subject/>
  <dc:title>电大英语（一）期末复习</dc:title>
</cp:coreProperties>
</file>