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9806-187E-4B0C-B3B8-DB9ACA18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5267-06CA-4B44-BE83-F2E56442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58C6-F804-4142-8E68-523AEC73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22A-A21D-49C4-87BD-442F2F71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62B3-5C68-4F88-B9D6-797B6E52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8FDD-469B-403E-9FD8-03EF45E3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0944-1CE6-4CBC-9C19-1883F11C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B5E1-4C98-402B-A130-6A7F43DE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12D8-56C1-4EF1-9208-B6BA07BF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0379-116B-470B-9107-65CB3F72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C747-51E4-44B6-8ACA-2E9EBBCC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8AA-0A37-4C5A-B36E-5ED48FF7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C964-1732-457D-80CD-5672A8FE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48AA-71CB-48A4-B87C-13338589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95F0-13EB-4BA1-A85A-D673FF92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FA61-6974-462A-9630-17A806D9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DA62-11D9-428A-89A8-5BFB99FB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2851-8CFB-42A8-8073-2E414741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79C-383A-45CC-BC3E-F9911023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2A8-235F-44EC-838D-59671F62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A33-125C-4852-8A83-36C86013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B14-ACA7-49A4-B28E-E4F9B349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C0E-3BEE-4E2B-973C-0657BDE3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F7AC-297C-42C7-85BC-A80DEC67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83CF-769B-4CA2-A4BB-9AFF5C9561E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8FC0-F0A1-4EA9-80D8-48BBC69EE51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0"/>
            <a:ext cx="838188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四种时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表示：一般现在时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普遍真理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事物所处的一般状态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经常习惯性的动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m writes a letter at home every wee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现在进行时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 此刻正在进行的动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当前这一阶段正在进行的动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m is writing a letter at home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般将来时：表示将要发生的动作和情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m will write a letter at home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般过去时；过去某时发生的动作和情况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m wrote a letter at home yesterda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 rot="5400000">
            <a:off x="-387720" y="3719520"/>
            <a:ext cx="2530440" cy="88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动词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304920"/>
            <a:ext cx="868680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形式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般现在时——动词原形（第三人称单数）                                                             助动词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o(does)                                                         Does Tom write a letter  every day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进行时——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 do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助动词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      Is Tom writing a letter n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般将来时——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/shall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动词原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助动词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/shall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 Tom write a letter tomorr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般过去时——动词过去式 助动词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d                  Did Tom write a letter yester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457200"/>
            <a:ext cx="868680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标志性时间状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般现在时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 … ,often, usually,some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在进行时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at the momen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present,Look,L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般过去时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sterday… ,last… 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段时间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o,the day before yester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般将来时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orrow… ,next… 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+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段时间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on,the day after tomorr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SY01265_" descr=""/>
          <p:cNvPicPr/>
          <p:nvPr/>
        </p:nvPicPr>
        <p:blipFill>
          <a:blip r:embed="rId1"/>
          <a:stretch/>
        </p:blipFill>
        <p:spPr>
          <a:xfrm>
            <a:off x="7467480" y="1828800"/>
            <a:ext cx="16765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38088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28600"/>
            <a:ext cx="88390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Dear Xiao Wan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time no see,I miss you very much. I have so many interesting things to tell you. Last week, I___(go) to the Summer Palace with my classmates,we ___(have) a good time there.We ___(travel) a lot of beautiful places that day and ____(enjoy) ourselves very much.What about you? Did you have fu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I_____(sit) in my classroom and _____(write) this short letter to you.Next month ___(be)our spring holiday, what ___you __(do) by then? I _____(come) back home and maybe we can meet aga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-50760"/>
            <a:ext cx="8915400" cy="66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句型转换（否定及疑问句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m wrote a letter at home yester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否定句：在系动词、情态动词、助动词之后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m didn’t write a letter at home yester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般疑问句：将系动词、情态动词、助动词提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d Tom write a letter at home yesterda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特殊疑问句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对主语提问—直接用特殊疑问词替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wrote a letter at home yesterda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般—特殊疑问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般疑问句，去掉被问部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id Tom write a letter yesterda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对谓语部分提问—特殊疑问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般疑问句，并用的相映形式替换被问部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id Tom do at home yesterda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70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特殊疑问词小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对主语提问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,whose+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名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+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名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对时间状语提问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对泛泛的时间提问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lo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对一段时间提问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ti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具体几点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其他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对方式提问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so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多久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o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多大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oft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频率提问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地点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many+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可数名词（多少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much+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不可数名词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对原因提问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对事物提问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 visited Beijing three or four times a mon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 or four times a mont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提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often did he visit Beiji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 or four times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提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many times did he visit Beijing a mon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4:00:27Z</dcterms:created>
  <dc:creator>个人电脑</dc:creator>
  <dc:description/>
  <dc:language>en-US</dc:language>
  <cp:lastModifiedBy>Billgates</cp:lastModifiedBy>
  <dcterms:modified xsi:type="dcterms:W3CDTF">2003-11-29T13:35:49Z</dcterms:modified>
  <cp:revision>7</cp:revision>
  <dc:subject/>
  <dc:title>PowerPoint 演示文稿</dc:title>
</cp:coreProperties>
</file>