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E46-5862-4B1D-B3A0-DBCE0F46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18C-1FAE-4FED-9471-F0D06CF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FF6-9F2D-479A-A917-2CC0AF5F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054-9D51-44D6-A182-114B2FB5C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0CE7-2D8D-43D2-986E-12F413BB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17BB-DA3D-4EBB-9A2C-F67B4CB3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8B8A-6322-4A08-AF70-40EF36B8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36FE-D67E-488F-AD4D-22CDF96A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C3A1-9C89-49AF-A9D9-1E6C7672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EDA4-6627-433C-A621-208F5A03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3F13-2DB0-4AE3-8796-38DC448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9CA-9C6A-4016-9742-21E0CD28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1636-C38A-48F0-99DA-53BCBF47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6771-2D70-4D5A-9722-462BBD9C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C5C0-280D-4FE0-B27C-41EE7AE7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567D-1CC1-40C8-832E-BE8E38A3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21B4-5AD4-4240-8D28-A60CB7F5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8BD-6E90-4504-86F6-F273D9D4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1C32-732E-4EF2-9E27-95FB7F71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AD4-4E62-45BE-9B3C-E1FA02B0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E9D-CAE9-4CD3-A387-062FDCF3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46A-4A9F-440A-B56F-81311972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F3F-EACE-42A8-B71A-C751885E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2F2D-C808-4D4D-ABCC-309F4C28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1C90-D4FA-41C8-A2A4-AF7443EAD1B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9F83-1662-493B-A1C8-C0DD0973592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533520"/>
            <a:ext cx="82296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基础英语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基础语法（二）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D04912_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773440" cy="241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66680" y="838080"/>
            <a:ext cx="72392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形容词的基本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放在名词的前面作定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 big  tr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 green  book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放在系动词的后面作表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例如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 tree  is  big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 book  is  gree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样品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1922400" cy="18208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480" y="533520"/>
            <a:ext cx="79250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词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大的（体积）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rg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大的（面积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红色的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reen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绿色的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eep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深的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de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宽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ng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的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黄色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ll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高的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mall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小的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ppy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快乐的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resting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趣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66680" y="533520"/>
            <a:ext cx="76201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例句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 is  a  yellow  desk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 is  a  deep  river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se  are  tall  trees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se  are  small  leave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 road  is  wide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 days  are  long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BD05537_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550880" cy="3454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28600"/>
            <a:ext cx="79250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二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数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 two   three   four   five   six   sev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ight   nine   ten   eleven   twel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rteen   fourteen   fifteen   sixte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een   eighteen   ninetee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wenty   thirty   forty   fifty   six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ty   eighty   nine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undre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百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sand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千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llion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百万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数词的表达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个位和十位之间要有连字符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-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十位和百位之间要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三位为一个单位，每三位之间有一个逗号，表示一个单词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23,456,78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hundred and twenty –three mill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 hundred and fifty –six thous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 hundred and eighty –nin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0720" y="533520"/>
            <a:ext cx="7238880" cy="70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练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29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ine hundred and twenty –nine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20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hundred and twent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28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housand two hundred and     twenty –e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4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752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million ,six hundred and forty thousand ,seven hundred and fifty –tw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0"/>
            <a:ext cx="79246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句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的特殊疑问句的变法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特殊疑问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疑问句（去掉被问部分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is a tree 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tree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提问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般疑问句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this a tre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特殊疑问词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什么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is ?       Or:What’s this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D00028_" descr=""/>
          <p:cNvPicPr/>
          <p:nvPr/>
        </p:nvPicPr>
        <p:blipFill>
          <a:blip r:embed="rId1"/>
          <a:stretch/>
        </p:blipFill>
        <p:spPr>
          <a:xfrm>
            <a:off x="7238880" y="4267080"/>
            <a:ext cx="1295640" cy="107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0"/>
            <a:ext cx="807696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部分表示职业的单词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教师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acher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学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ude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医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ctor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护士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urse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工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rker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律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wy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会计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ountant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秘书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cretar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：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teacher.    You’re students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is a doctor .           She is a nurse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secretaries .  They are lawyers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4:22:02Z</dcterms:created>
  <dc:creator>aaaaaaaaa</dc:creator>
  <dc:description/>
  <dc:language>en-US</dc:language>
  <cp:lastModifiedBy>个人电脑</cp:lastModifiedBy>
  <dcterms:modified xsi:type="dcterms:W3CDTF">2003-05-20T23:38:38Z</dcterms:modified>
  <cp:revision>12</cp:revision>
  <dc:subject/>
  <dc:title>PowerPoint 演示文稿</dc:title>
</cp:coreProperties>
</file>