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23.gif" ContentType="image/gif"/>
  <Override PartName="/ppt/media/image3.gif" ContentType="image/gif"/>
  <Override PartName="/ppt/media/image12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8D4A-DF48-4DF8-9607-F560A655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8281-ED81-47EB-B28A-8D24B117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A4E-A73E-4BA0-8771-0E15744E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6AA-3B31-4D09-AD14-618CF759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32A7-20A5-4483-AD3D-DCC0B83B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63AD-A84A-4D88-BA8B-2716D1A2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090D-EDDE-4B6F-8E5A-6B9D413A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6D5A-0903-4B8D-A9F0-6A27317C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5DD3-69DD-4843-81CB-87931093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B8C4-E20B-438C-AB0C-7E0B652B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FC60-A774-46E1-837F-32B03CD3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C10-65F6-4869-9302-38B91F39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6CB9-FB49-4EA4-9343-0B50285E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8623-1DF7-457C-994A-C5ADB2B0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6368-DE30-431D-9CDD-84DB48B3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CEE5-3C2C-42FF-8C15-859B9C9E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6165-6DC1-4987-8C89-410329A3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1B3C-64B9-4EC0-8B51-20682502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3F15-64C1-483C-AFE2-0789B0A2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0F9-7379-4CED-8708-B6F87FC1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9317-DE0C-4D94-A1CD-755F5AA7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B82-9425-44AE-AFDE-CB94F715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4B7-3A00-4066-8569-64CBB027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0145-A9AA-4D33-A6F3-17A1D99D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5B10-578D-4442-8A24-51FB03CD506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2457-AD94-4336-BBED-3C2F4BA256B3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4.gif"/><Relationship Id="rId8" Type="http://schemas.openxmlformats.org/officeDocument/2006/relationships/image" Target="../media/image9.gif"/><Relationship Id="rId9" Type="http://schemas.openxmlformats.org/officeDocument/2006/relationships/image" Target="../media/image7.gif"/><Relationship Id="rId10" Type="http://schemas.openxmlformats.org/officeDocument/2006/relationships/image" Target="../media/image5.gif"/><Relationship Id="rId11" Type="http://schemas.openxmlformats.org/officeDocument/2006/relationships/image" Target="../media/image6.gif"/><Relationship Id="rId12" Type="http://schemas.openxmlformats.org/officeDocument/2006/relationships/image" Target="../media/image10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2.png"/><Relationship Id="rId16" Type="http://schemas.openxmlformats.org/officeDocument/2006/relationships/image" Target="../media/image13.gif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0948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e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l" descr=""/>
          <p:cNvPicPr/>
          <p:nvPr/>
        </p:nvPicPr>
        <p:blipFill>
          <a:blip r:embed="rId3"/>
          <a:stretch/>
        </p:blipFill>
        <p:spPr>
          <a:xfrm>
            <a:off x="2895480" y="2209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c" descr=""/>
          <p:cNvPicPr/>
          <p:nvPr/>
        </p:nvPicPr>
        <p:blipFill>
          <a:blip r:embed="rId4"/>
          <a:stretch/>
        </p:blipFill>
        <p:spPr>
          <a:xfrm>
            <a:off x="3733920" y="2209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o" descr=""/>
          <p:cNvPicPr/>
          <p:nvPr/>
        </p:nvPicPr>
        <p:blipFill>
          <a:blip r:embed="rId5"/>
          <a:stretch/>
        </p:blipFill>
        <p:spPr>
          <a:xfrm>
            <a:off x="4419720" y="2209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m" descr=""/>
          <p:cNvPicPr/>
          <p:nvPr/>
        </p:nvPicPr>
        <p:blipFill>
          <a:blip r:embed="rId6"/>
          <a:stretch/>
        </p:blipFill>
        <p:spPr>
          <a:xfrm>
            <a:off x="5181480" y="2209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e" descr=""/>
          <p:cNvPicPr/>
          <p:nvPr/>
        </p:nvPicPr>
        <p:blipFill>
          <a:blip r:embed="rId7"/>
          <a:stretch/>
        </p:blipFill>
        <p:spPr>
          <a:xfrm>
            <a:off x="6019920" y="2209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t" descr=""/>
          <p:cNvPicPr/>
          <p:nvPr/>
        </p:nvPicPr>
        <p:blipFill>
          <a:blip r:embed="rId8"/>
          <a:stretch/>
        </p:blipFill>
        <p:spPr>
          <a:xfrm>
            <a:off x="502920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" descr=""/>
          <p:cNvPicPr/>
          <p:nvPr/>
        </p:nvPicPr>
        <p:blipFill>
          <a:blip r:embed="rId9"/>
          <a:stretch/>
        </p:blipFill>
        <p:spPr>
          <a:xfrm>
            <a:off x="556272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8" name="l" descr=""/>
          <p:cNvPicPr/>
          <p:nvPr/>
        </p:nvPicPr>
        <p:blipFill>
          <a:blip r:embed="rId10"/>
          <a:stretch/>
        </p:blipFill>
        <p:spPr>
          <a:xfrm>
            <a:off x="5715000" y="4267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9" name="c" descr=""/>
          <p:cNvPicPr/>
          <p:nvPr/>
        </p:nvPicPr>
        <p:blipFill>
          <a:blip r:embed="rId11"/>
          <a:stretch/>
        </p:blipFill>
        <p:spPr>
          <a:xfrm>
            <a:off x="5029200" y="4267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a" descr=""/>
          <p:cNvPicPr/>
          <p:nvPr/>
        </p:nvPicPr>
        <p:blipFill>
          <a:blip r:embed="rId12"/>
          <a:stretch/>
        </p:blipFill>
        <p:spPr>
          <a:xfrm>
            <a:off x="6248520" y="4267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1" name="s" descr=""/>
          <p:cNvPicPr/>
          <p:nvPr/>
        </p:nvPicPr>
        <p:blipFill>
          <a:blip r:embed="rId13"/>
          <a:stretch/>
        </p:blipFill>
        <p:spPr>
          <a:xfrm>
            <a:off x="6858000" y="4267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2" name="s" descr=""/>
          <p:cNvPicPr/>
          <p:nvPr/>
        </p:nvPicPr>
        <p:blipFill>
          <a:blip r:embed="rId14"/>
          <a:stretch/>
        </p:blipFill>
        <p:spPr>
          <a:xfrm>
            <a:off x="7391520" y="4267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vrgirl" descr=""/>
          <p:cNvPicPr/>
          <p:nvPr/>
        </p:nvPicPr>
        <p:blipFill>
          <a:blip r:embed="rId15"/>
          <a:stretch/>
        </p:blipFill>
        <p:spPr>
          <a:xfrm>
            <a:off x="1828800" y="2971800"/>
            <a:ext cx="1905120" cy="3657600"/>
          </a:xfrm>
          <a:prstGeom prst="rect">
            <a:avLst/>
          </a:prstGeom>
          <a:ln w="0">
            <a:noFill/>
          </a:ln>
        </p:spPr>
      </p:pic>
      <p:pic>
        <p:nvPicPr>
          <p:cNvPr id="104" name="welcomewht" descr=""/>
          <p:cNvPicPr/>
          <p:nvPr/>
        </p:nvPicPr>
        <p:blipFill>
          <a:blip r:embed="rId16"/>
          <a:stretch/>
        </p:blipFill>
        <p:spPr>
          <a:xfrm flipH="1">
            <a:off x="6858000" y="533520"/>
            <a:ext cx="1447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hello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3417840" cy="2011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057400" y="685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00b5b"/>
                </a:solidFill>
                <a:latin typeface="Trebuchet MS"/>
              </a:rPr>
              <a:t>Good luc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7" name="image001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98960" cy="2057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191120" y="1371600"/>
            <a:ext cx="4647960" cy="1523880"/>
          </a:xfrm>
          <a:prstGeom prst="cloudCallout">
            <a:avLst>
              <a:gd name="adj1" fmla="val 21277"/>
              <a:gd name="adj2" fmla="val 120939"/>
            </a:avLst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What’s the weather like today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3352680"/>
            <a:ext cx="3613320" cy="1363680"/>
          </a:xfrm>
          <a:prstGeom prst="wedgeEllipseCallout">
            <a:avLst>
              <a:gd name="adj1" fmla="val 81282"/>
              <a:gd name="adj2" fmla="val 44995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rebuchet MS"/>
              </a:rPr>
              <a:t>It’s fine.(windy,cool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rebuchet MS"/>
              </a:rPr>
              <a:t>wet,etc.)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91320"/>
            <a:ext cx="3124080" cy="533160"/>
          </a:xfrm>
          <a:prstGeom prst="wedgeRectCallout">
            <a:avLst>
              <a:gd name="adj1" fmla="val 42430"/>
              <a:gd name="adj2" fmla="val -165476"/>
            </a:avLst>
          </a:prstGeom>
          <a:noFill/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黑体"/>
              </a:rPr>
              <a:t>Congratulations 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228600"/>
            <a:ext cx="7772400" cy="62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ff"/>
                </a:solidFill>
                <a:latin typeface="Times New Roman"/>
              </a:rPr>
              <a:t>整点表达法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’s __________ o’clock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空白处可以填入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,two,three,four,five,six,    seven,eight,nine,ten,eleven,twelve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来表示从一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到十二点的整点时间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ff"/>
                </a:solidFill>
                <a:latin typeface="Times New Roman"/>
              </a:rPr>
              <a:t>可用来形容天气的形容词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有风的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indy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有雨的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ainy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潮湿的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凉爽的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ol 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阳光明媚的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nny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多云的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oudy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有时可将几个词连起来共同表示当时的天气情况，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’s windy and cool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m0djqr77" descr=""/>
          <p:cNvPicPr/>
          <p:nvPr/>
        </p:nvPicPr>
        <p:blipFill>
          <a:blip r:embed="rId1"/>
          <a:stretch/>
        </p:blipFill>
        <p:spPr>
          <a:xfrm>
            <a:off x="7620120" y="2743200"/>
            <a:ext cx="990360" cy="762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girl" descr=""/>
          <p:cNvPicPr/>
          <p:nvPr/>
        </p:nvPicPr>
        <p:blipFill>
          <a:blip r:embed="rId1"/>
          <a:stretch/>
        </p:blipFill>
        <p:spPr>
          <a:xfrm>
            <a:off x="8458200" y="6019920"/>
            <a:ext cx="365040" cy="650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600200" y="566640"/>
            <a:ext cx="693432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a  [ei ]                 J j  [d</a:t>
            </a:r>
            <a:r>
              <a:rPr b="0" lang="en-US" sz="28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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i]                 Ss  [es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b  [bi:]                Kk  [kei ]                 Tt   [ti: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c   [si:]                 Ll   [e l ]                 Uu [ju: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d  [di:]                 Mm  [em]               Vv  [vi: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e  [ i: ]                 Nn  [en]           Ww[’d</a:t>
            </a:r>
            <a:r>
              <a:rPr b="0" lang="en-US" sz="28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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lju:]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f   [ef ]                 Oo  [</a:t>
            </a:r>
            <a:r>
              <a:rPr b="0" lang="en-US" sz="28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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]               Xx  [eks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g  [d</a:t>
            </a:r>
            <a:r>
              <a:rPr b="0" lang="en-US" sz="28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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:]               Pp  [pi: ]              Yy  [wai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h  [eit</a:t>
            </a:r>
            <a:r>
              <a:rPr b="0" lang="en-US" sz="28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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]               Qq  [kju:]             Zz   [zi: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i    [</a:t>
            </a:r>
            <a:r>
              <a:rPr b="0" lang="en-US" sz="28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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]                Rr   [</a:t>
            </a:r>
            <a:r>
              <a:rPr b="0" lang="en-US" sz="28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:r]                   [zed]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66880" y="533520"/>
            <a:ext cx="228600" cy="2514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380880"/>
            <a:ext cx="6094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   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6880" y="342900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3276720"/>
            <a:ext cx="60948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辅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   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隶书"/>
              </a:rPr>
              <a:t>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1320" y="2133720"/>
            <a:ext cx="1277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ff"/>
                </a:solidFill>
                <a:latin typeface="Times New Roman"/>
                <a:ea typeface="隶书"/>
              </a:rPr>
              <a:t>国  际  音  标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380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前元音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: [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 ]    [ 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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]   [ i ]   [ i : ]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838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元音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: [ </a:t>
            </a:r>
            <a:r>
              <a:rPr b="1" lang="zh-CN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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]    [ </a:t>
            </a:r>
            <a:r>
              <a:rPr b="1" lang="zh-CN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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12193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后元音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: [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u]    [u:]  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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]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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]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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] 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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: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19051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合口双元音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: [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i ]    [ai ]  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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i  ] 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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u ] [ a u 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2590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集中双元音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: [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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]    [ 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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]   [ u 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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32004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爆破音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: [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 ] [ p ] [ d ] [ t ] [ 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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] [  k 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37339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摩擦音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: [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 ][ z ][ f ][ v ][ 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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][ 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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][ h][ r][ 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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][ 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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2670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破擦音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: [  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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][ d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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][ tr ][ dr ][ ts ][ dz ]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4876920"/>
            <a:ext cx="76320" cy="76176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5"/>
                </a:lnTo>
                <a:cubicBezTo>
                  <a:pt x="10800" y="10395"/>
                  <a:pt x="5400" y="11295"/>
                  <a:pt x="0" y="11295"/>
                </a:cubicBezTo>
                <a:cubicBezTo>
                  <a:pt x="5400" y="11295"/>
                  <a:pt x="10800" y="12195"/>
                  <a:pt x="10800" y="1309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50640" y="5029200"/>
            <a:ext cx="91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音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清晰音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: [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 eg  ]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5181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模糊音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: [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l  ]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8120" y="5638680"/>
            <a:ext cx="30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半元音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: [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w ]    [  j  ]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61722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鼻辅音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: [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 ]    [  n  ]  [ 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girl13" descr=""/>
          <p:cNvPicPr/>
          <p:nvPr/>
        </p:nvPicPr>
        <p:blipFill>
          <a:blip r:embed="rId1"/>
          <a:stretch/>
        </p:blipFill>
        <p:spPr>
          <a:xfrm>
            <a:off x="7467480" y="5486400"/>
            <a:ext cx="1295640" cy="1120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56640" y="45720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单元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56640" y="2057400"/>
            <a:ext cx="91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双元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3880" y="0"/>
            <a:ext cx="7620120" cy="66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字母组合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元音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[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: ]  ee  tree / ea  please / e()e  the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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u ]  ow  window / oa coat / o()e tho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[ei ]   a()e  cake  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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i ]   i()e  fine   [ju:]  u()e   excu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ur 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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:] nurse       ir 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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:] girl        ar 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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:]  car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or  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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]  doctor   /  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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: ] morn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er 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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]  mother   /  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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:]  ter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u 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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: ] autumn   al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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:]  wall   a(ss) 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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:]   g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ow 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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u ] window  /  [au]  no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ou [au ] house   /  [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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]  dou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oo [u:] room  /  [u]  loo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[i</a:t>
            </a:r>
            <a:r>
              <a:rPr b="1" lang="en-US" sz="24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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]  ere   here  / eer  beer  / ear  ne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girlball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914400" cy="99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43000" y="0"/>
            <a:ext cx="8001000" cy="64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辅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h  [t</a:t>
            </a:r>
            <a:r>
              <a:rPr b="1" lang="en-US" sz="28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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]  teacher   /  [k ] technolog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th   [</a:t>
            </a:r>
            <a:r>
              <a:rPr b="1" lang="en-US" sz="28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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]   thing        /   [</a:t>
            </a:r>
            <a:r>
              <a:rPr b="1" lang="en-US" sz="28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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]   th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h  [ w ]  what     /    [ h ] wh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h   [</a:t>
            </a:r>
            <a:r>
              <a:rPr b="1" lang="en-US" sz="28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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]   she                         ck  [ k ] clo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y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开头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[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j ]  yes   /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结尾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[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i ] city   /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只有一个辅音字母与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构成单词时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[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i ]  m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[ d</a:t>
            </a:r>
            <a:r>
              <a:rPr b="1" lang="en-US" sz="28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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]  j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在单词开头时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job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g(ge)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在单词结尾时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lar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[</a:t>
            </a:r>
            <a:r>
              <a:rPr b="1" lang="en-US" sz="2800" spc="-1" strike="noStrike">
                <a:solidFill>
                  <a:srgbClr val="eaeaea"/>
                </a:solidFill>
                <a:latin typeface="Kingsoft Phonetic Plain"/>
                <a:ea typeface="Kingsoft Phonetic Plain"/>
              </a:rPr>
              <a:t>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]    ng  song       /     [k ]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之前的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     than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0" name="sun9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1" name="book" descr=""/>
          <p:cNvPicPr/>
          <p:nvPr/>
        </p:nvPicPr>
        <p:blipFill>
          <a:blip r:embed="rId2"/>
          <a:stretch/>
        </p:blipFill>
        <p:spPr>
          <a:xfrm>
            <a:off x="7772400" y="5335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905120" y="838080"/>
            <a:ext cx="65530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hate      like        eve       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note        cute        hug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park     corner      larg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purse        actor        cit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skate     spoke      star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pierrots" descr=""/>
          <p:cNvPicPr/>
          <p:nvPr/>
        </p:nvPicPr>
        <p:blipFill>
          <a:blip r:embed="rId1"/>
          <a:stretch/>
        </p:blipFill>
        <p:spPr>
          <a:xfrm>
            <a:off x="7620120" y="4876920"/>
            <a:ext cx="761760" cy="1143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828800" y="68580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43280" y="1447920"/>
            <a:ext cx="5905440" cy="23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ish you a happy night.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43434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4038480"/>
            <a:ext cx="685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ccff"/>
                </a:solidFill>
                <a:latin typeface="Times New Roman"/>
              </a:rPr>
              <a:t>任课教师：刘冬萍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Times New Roman"/>
              </a:rPr>
              <a:t>E-mail:Hmily1228@hotmail.co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ff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ccff"/>
                </a:solidFill>
                <a:latin typeface="Times New Roman"/>
              </a:rPr>
              <a:t>Hmily1228999@sohu.co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sailing2" descr=""/>
          <p:cNvPicPr/>
          <p:nvPr/>
        </p:nvPicPr>
        <p:blipFill>
          <a:blip r:embed="rId1"/>
          <a:stretch/>
        </p:blipFill>
        <p:spPr>
          <a:xfrm>
            <a:off x="6781680" y="3352680"/>
            <a:ext cx="1665360" cy="1293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13:36:29Z</dcterms:created>
  <dc:creator>个人电脑</dc:creator>
  <dc:description/>
  <dc:language>en-US</dc:language>
  <cp:lastModifiedBy>个人电脑</cp:lastModifiedBy>
  <dcterms:modified xsi:type="dcterms:W3CDTF">2003-04-12T23:27:28Z</dcterms:modified>
  <cp:revision>17</cp:revision>
  <dc:subject/>
  <dc:title>PowerPoint 演示文稿</dc:title>
</cp:coreProperties>
</file>