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gif" ContentType="image/gif"/>
  <Override PartName="/ppt/media/image3.wmf" ContentType="image/x-wmf"/>
  <Override PartName="/ppt/media/laser.wav" ContentType="audio/x-wav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EDCF-9A24-4BDF-90C9-94C313477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617F-215C-4DA9-9DD1-9147EFC89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F4D9-1176-429F-BD0D-572623368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AB05-9733-489A-9E95-C36227FAA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9C35F-122D-4474-A203-60981D560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DED07-BC94-435C-9B42-BC98FAC06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154C9-8E12-4D6B-8723-9B61A74FB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C386F-96BD-44E2-B6F3-38F7AC520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1DCAE-A313-4384-B7DE-9C4A306F3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5B58E-E906-49D8-A04C-76271F0F2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F5A14-D740-47F1-80FC-B50BABC9B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0F0A-B62F-410B-A7D2-DF3ECE069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DDD14-29D5-4195-8C28-B02C2F807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7E693-7685-47A6-BE4B-5DE43F270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9D1CC-65E9-431A-A021-125BE34E4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7840D-C408-4955-9443-11D251DA2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1953C-717A-4486-B4A6-F0CF4B13A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D1D1-4B47-48FA-86AE-C6CBCC6CD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6AB6-83E7-4A39-809B-5929B0B07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E936-6407-48AE-9139-594DD634E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3C3F-0AEA-4F4B-B5B7-1D79332DF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ED91-F3A4-456B-876D-4BE5ECC78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A87A-DF6F-4AB6-B56E-CADFEFE4B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2A07-6F4D-4DA1-BED6-58E559C04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7215C-28F0-480F-AB38-D74FADE56755}" type="slidenum"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1C883-4F4D-4F95-B5C6-555323F368FA}" type="slidenum"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旷野中的小屋" descr=""/>
          <p:cNvPicPr/>
          <p:nvPr/>
        </p:nvPicPr>
        <p:blipFill>
          <a:blip r:embed="rId1"/>
          <a:stretch/>
        </p:blipFill>
        <p:spPr>
          <a:xfrm>
            <a:off x="2666880" y="4038480"/>
            <a:ext cx="3902040" cy="24526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143000" y="685800"/>
            <a:ext cx="716292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1" lang="zh-CN" sz="6000" spc="-1" strike="noStrike">
                <a:solidFill>
                  <a:srgbClr val="ffffcc"/>
                </a:solidFill>
                <a:latin typeface="Times New Roman"/>
              </a:rPr>
              <a:t>基础英语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zh-CN" sz="6000" spc="-1" strike="noStrike">
                <a:solidFill>
                  <a:srgbClr val="ffffcc"/>
                </a:solidFill>
                <a:latin typeface="Times New Roman"/>
              </a:rPr>
              <a:t>基础语法（一）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914400" y="0"/>
            <a:ext cx="7467480" cy="70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单词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指示代词：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这，这个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this         </a:t>
            </a: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那，那个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that                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这些 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these            </a:t>
            </a: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那些  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thos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人称代词（主格）：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我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      </a:t>
            </a: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我们 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we     </a:t>
            </a: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你，你们  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you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他  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he        </a:t>
            </a: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她    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she     </a:t>
            </a: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它   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t    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他们 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they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3" name="5_16" descr=""/>
          <p:cNvPicPr/>
          <p:nvPr/>
        </p:nvPicPr>
        <p:blipFill>
          <a:blip r:embed="rId1"/>
          <a:stretch/>
        </p:blipFill>
        <p:spPr>
          <a:xfrm>
            <a:off x="7620120" y="457200"/>
            <a:ext cx="1236600" cy="28526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6600"/>
                </a:solidFill>
                <a:latin typeface="Times New Roman"/>
                <a:ea typeface="幼圆"/>
              </a:rPr>
              <a:t>系动词</a:t>
            </a:r>
            <a:r>
              <a:rPr b="1" i="1" lang="zh-CN" sz="5400" spc="-1" strike="noStrike">
                <a:solidFill>
                  <a:srgbClr val="ff6600"/>
                </a:solidFill>
                <a:latin typeface="Times New Roman"/>
                <a:ea typeface="幼圆"/>
              </a:rPr>
              <a:t>----</a:t>
            </a:r>
            <a:r>
              <a:rPr b="1" i="1" lang="zh-CN" sz="5400" spc="-1" strike="noStrike">
                <a:solidFill>
                  <a:srgbClr val="ff6600"/>
                </a:solidFill>
                <a:latin typeface="Times New Roman"/>
                <a:ea typeface="幼圆"/>
              </a:rPr>
              <a:t>是</a:t>
            </a:r>
            <a:r>
              <a:rPr b="1" i="1" lang="zh-CN" sz="5400" spc="-1" strike="noStrike">
                <a:solidFill>
                  <a:srgbClr val="ff6600"/>
                </a:solidFill>
                <a:latin typeface="Times New Roman"/>
                <a:ea typeface="幼圆"/>
              </a:rPr>
              <a:t>(</a:t>
            </a:r>
            <a:r>
              <a:rPr b="1" i="1" lang="en-US" sz="5400" spc="-1" strike="noStrike">
                <a:solidFill>
                  <a:srgbClr val="ff6600"/>
                </a:solidFill>
                <a:latin typeface="Times New Roman"/>
                <a:ea typeface="幼圆"/>
              </a:rPr>
              <a:t>be)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黑体"/>
              </a:rPr>
              <a:t>am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黑体"/>
              </a:rPr>
              <a:t>用于第一人称单数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黑体"/>
              </a:rPr>
              <a:t>I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黑体"/>
              </a:rPr>
              <a:t>（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黑体"/>
              </a:rPr>
              <a:t>我）之后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黑体"/>
              </a:rPr>
              <a:t>is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黑体"/>
              </a:rPr>
              <a:t>用于第三人称单数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黑体"/>
              </a:rPr>
              <a:t>he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黑体"/>
              </a:rPr>
              <a:t>（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黑体"/>
              </a:rPr>
              <a:t>他）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黑体"/>
              </a:rPr>
              <a:t>,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黑体"/>
              </a:rPr>
              <a:t>she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黑体"/>
              </a:rPr>
              <a:t>（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黑体"/>
              </a:rPr>
              <a:t>她）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黑体"/>
              </a:rPr>
              <a:t>,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黑体"/>
              </a:rPr>
              <a:t>it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黑体"/>
              </a:rPr>
              <a:t>（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黑体"/>
              </a:rPr>
              <a:t>它）之后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are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用于其他人称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we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我们）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you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你、你们）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they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他们）之后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418440" y="3581280"/>
            <a:ext cx="2725560" cy="28195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cc00"/>
                </a:solidFill>
                <a:latin typeface="Times New Roman"/>
                <a:ea typeface="黑体"/>
              </a:rPr>
              <a:t>冠词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定冠词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用法：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6388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）专有名词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Great Wal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6388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）世界上独一 无二的事物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su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6388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）特指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n the des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6388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）上文提到过的内容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s is a book, the book is red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6388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不定冠词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6388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n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用在开头的第一个音为元音的单词前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n eg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6388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用在开头的第一个音为辅音的单词前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 boo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467480" y="1143000"/>
            <a:ext cx="1676520" cy="35053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16765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cc00"/>
                </a:solidFill>
                <a:latin typeface="Times New Roman"/>
                <a:ea typeface="黑体"/>
              </a:rPr>
              <a:t>This is…       That is…</a:t>
            </a:r>
            <a:br>
              <a:rPr sz="5400"/>
            </a:br>
            <a:r>
              <a:rPr b="1" i="1" lang="en-US" sz="5400" spc="-1" strike="noStrike">
                <a:solidFill>
                  <a:srgbClr val="ffcc00"/>
                </a:solidFill>
                <a:latin typeface="Times New Roman"/>
                <a:ea typeface="黑体"/>
              </a:rPr>
              <a:t>These are…    Those are…</a:t>
            </a:r>
            <a:r>
              <a:rPr b="1" i="1" lang="zh-CN" sz="5400" spc="-1" strike="noStrike">
                <a:solidFill>
                  <a:srgbClr val="ffcc00"/>
                </a:solidFill>
                <a:latin typeface="Times New Roman"/>
                <a:ea typeface="黑体"/>
              </a:rPr>
              <a:t>系动词</a:t>
            </a:r>
            <a:r>
              <a:rPr b="1" i="1" lang="zh-CN" sz="5400" spc="-1" strike="noStrike">
                <a:solidFill>
                  <a:srgbClr val="ffcc00"/>
                </a:solidFill>
                <a:latin typeface="Times New Roman"/>
                <a:ea typeface="黑体"/>
              </a:rPr>
              <a:t>+</a:t>
            </a:r>
            <a:r>
              <a:rPr b="1" i="1" lang="zh-CN" sz="5400" spc="-1" strike="noStrike">
                <a:solidFill>
                  <a:srgbClr val="ffcc00"/>
                </a:solidFill>
                <a:latin typeface="Times New Roman"/>
                <a:ea typeface="黑体"/>
              </a:rPr>
              <a:t>表语</a:t>
            </a:r>
            <a:br>
              <a:rPr sz="5400"/>
            </a:br>
            <a:r>
              <a:rPr b="1" i="1" lang="en-US" sz="5400" spc="-1" strike="noStrike">
                <a:solidFill>
                  <a:srgbClr val="ffcc00"/>
                </a:solidFill>
                <a:latin typeface="Times New Roman"/>
                <a:ea typeface="黑体"/>
              </a:rPr>
              <a:t>=</a:t>
            </a:r>
            <a:r>
              <a:rPr b="1" i="1" lang="zh-CN" sz="5400" spc="-1" strike="noStrike">
                <a:solidFill>
                  <a:srgbClr val="ffcc00"/>
                </a:solidFill>
                <a:latin typeface="Times New Roman"/>
                <a:ea typeface="黑体"/>
              </a:rPr>
              <a:t>系表结构</a:t>
            </a:r>
            <a:br>
              <a:rPr sz="5400"/>
            </a:br>
            <a:r>
              <a:rPr b="1" i="1" lang="zh-CN" sz="5400" spc="-1" strike="noStrike">
                <a:solidFill>
                  <a:srgbClr val="ffcc00"/>
                </a:solidFill>
                <a:latin typeface="Times New Roman"/>
                <a:ea typeface="黑体"/>
              </a:rPr>
              <a:t>后可加名词，如 </a:t>
            </a:r>
            <a:r>
              <a:rPr b="1" i="1" lang="en-US" sz="5400" spc="-1" strike="noStrike">
                <a:solidFill>
                  <a:srgbClr val="ffcc00"/>
                </a:solidFill>
                <a:latin typeface="Times New Roman"/>
                <a:ea typeface="黑体"/>
              </a:rPr>
              <a:t>book,pen,</a:t>
            </a:r>
            <a:br>
              <a:rPr sz="5400"/>
            </a:br>
            <a:r>
              <a:rPr b="1" i="1" lang="en-US" sz="5400" spc="-1" strike="noStrike">
                <a:solidFill>
                  <a:srgbClr val="ffcc00"/>
                </a:solidFill>
                <a:latin typeface="Times New Roman"/>
                <a:ea typeface="黑体"/>
              </a:rPr>
              <a:t>desk,tree,plane,egg…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962520" y="5181480"/>
            <a:ext cx="23619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8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系表结构</a:t>
            </a:r>
            <a:endParaRPr b="0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533520" y="685800"/>
            <a:ext cx="731520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例句：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这是一棵树。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This is a tree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那时一本书。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That is a book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这是一辆小汽车。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This is a car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那是一个苹果。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That is an apple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这是一支钢笔。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This is a pen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那是一个鸡蛋。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That is an egg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3" name="1" descr=""/>
          <p:cNvPicPr/>
          <p:nvPr/>
        </p:nvPicPr>
        <p:blipFill>
          <a:blip r:embed="rId1"/>
          <a:stretch/>
        </p:blipFill>
        <p:spPr>
          <a:xfrm>
            <a:off x="6629400" y="685800"/>
            <a:ext cx="2133720" cy="26668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cc00"/>
                </a:solidFill>
                <a:latin typeface="Times New Roman"/>
              </a:rPr>
              <a:t>名词复数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、一般：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--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s,  book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以“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s,ch,sh,x”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结尾：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--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es,  bus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以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结尾：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--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s,  rad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                    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--es,  potato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以辅音字母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结尾变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为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i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加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es,  citi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以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f,fe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结尾 ，变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f,fe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为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ves,  leav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6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单复同型：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sheep,Chines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7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抽象名词和物质名词为不可数名词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laser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66680" y="304920"/>
            <a:ext cx="716292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系表结构句子否定句的变法—在系动词之后加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no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一般疑问句变法—将系动词提前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如：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This is a tree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否定句为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This is not  a tree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可缩写          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s not = isn’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即           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This isn’t a tree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一般疑问句为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s this a tree?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7" name="pierrots" descr=""/>
          <p:cNvPicPr/>
          <p:nvPr/>
        </p:nvPicPr>
        <p:blipFill>
          <a:blip r:embed="rId1"/>
          <a:stretch/>
        </p:blipFill>
        <p:spPr>
          <a:xfrm>
            <a:off x="7010280" y="3962520"/>
            <a:ext cx="1676520" cy="21333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0T12:28:59Z</dcterms:created>
  <dc:creator>个人电脑</dc:creator>
  <dc:description/>
  <dc:language>en-US</dc:language>
  <cp:lastModifiedBy>个人电脑</cp:lastModifiedBy>
  <dcterms:modified xsi:type="dcterms:W3CDTF">2003-05-10T13:44:56Z</dcterms:modified>
  <cp:revision>4</cp:revision>
  <dc:subject/>
  <dc:title>PowerPoint 演示文稿</dc:title>
</cp:coreProperties>
</file>